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BCCE-D4ED-4B18-8960-5E4494EF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A836-F4E9-45EF-8A96-0305ECFB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00DE-8AA4-45FE-AD74-5DF60D410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1A64-8802-4F8E-92C1-9C5F85673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C551-3E44-4ED3-8A02-45DE8140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90ED5-6AC4-4C9B-9A59-3570ED24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B9C7-0181-4E72-9FCA-A2239DA6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201C-DE8F-4A78-BFB9-833BAAE3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C553-DC20-4224-982B-5FB70855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FA87-84A0-4B6C-9AF7-098495A3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D674-7AFA-4D91-9945-CE6773FA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16DA-7DCE-436D-BADB-7A593A3C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8CBC-A09A-440F-AD7B-5EF75E20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D5C5-A697-4E49-9C28-FACEC270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AE88-4346-42B7-B1BF-4423F41F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6E63-407A-49D6-8DEB-5FA5747C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C5D6-2310-4AD4-817A-328F9A23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B30A-A3E9-496A-8633-129536B6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5831-5755-4804-A958-2102C693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C8BA-579C-48B8-9683-7EF1CE8E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C929-B677-4DDA-8E85-2694F803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46B3-4B7F-41CA-B193-C6034FD8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86B4-15EF-4803-8AE3-BA31A488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06B8-F5A0-432A-BD15-55A43103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1CB3-91A0-40F1-8143-0509DA25DB2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AA22-9B22-434A-BBBF-078F77F6EA6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Gjør rede for relevante språklæringsteorier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g drøft dagens læreplan i lys av teor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Faghistorikk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3 hovedretninger i andrespråksforsk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Behavioristisk teori – kontrastiv analy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nb-NO" sz="2400" spc="-1" strike="noStrike">
                <a:solidFill>
                  <a:srgbClr val="ffffff"/>
                </a:solidFill>
                <a:latin typeface="Garamond"/>
              </a:rPr>
              <a:t>Sammenligning av to språ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nb-NO" sz="2400" spc="-1" strike="noStrike">
                <a:solidFill>
                  <a:srgbClr val="ffffff"/>
                </a:solidFill>
                <a:latin typeface="Garamond"/>
              </a:rPr>
              <a:t>Man kan forutsi problemområder og transfer av strukturer som lign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Kognitivistisk teori- </a:t>
            </a:r>
            <a:r>
              <a:rPr b="0" lang="nb-NO" sz="2400" spc="-1" strike="noStrike">
                <a:solidFill>
                  <a:srgbClr val="ffffff"/>
                </a:solidFill>
                <a:latin typeface="Garamond"/>
              </a:rPr>
              <a:t>istedenfor vanedanning er språklæring utprøving av hypoteser og etablering av regler. Aktivt og kreativ prosess. Læringsprosessen studeres nøye.</a:t>
            </a: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Dagens Læreplan i Fremmedspråk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Feilanalyse: man kan ikke forutsi feil bare pga sammenligning av S1 og S2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Feil sier også noe om elevens kompetan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ffffff"/>
                </a:solidFill>
                <a:latin typeface="Garamond"/>
              </a:rPr>
              <a:t>Mellomspråksteorien (Selinker 1972) oppstå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ffffff"/>
                </a:solidFill>
                <a:latin typeface="Garamond"/>
              </a:rPr>
              <a:t>Overføring fra morsmål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ffffff"/>
                </a:solidFill>
                <a:latin typeface="Garamond"/>
              </a:rPr>
              <a:t>Fra undervis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ffffff"/>
                </a:solidFill>
                <a:latin typeface="Garamond"/>
              </a:rPr>
              <a:t>Læringsstrategi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ffffff"/>
                </a:solidFill>
                <a:latin typeface="Garamond"/>
              </a:rPr>
              <a:t>Kommunikasjonsstrategi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ffffff"/>
                </a:solidFill>
                <a:latin typeface="Garamond"/>
              </a:rPr>
              <a:t>Overgeneraliseringer av regler i målspråke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K-06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Sosial-Konstruktivistisk læringssyn. ”Learner autonomy” (Holec 198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Planlegge, gjennomføre og vurdere sin egen læ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Læring har en affektiv dimensjon teori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Metakognitiv dimensjon: refleksjon over egen læring. (Vurdering </a:t>
            </a:r>
            <a:r>
              <a:rPr b="0" lang="nb-NO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Kommunikativ dimensjon: interkulturell kompetens, språkbad !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pråklæringsteorier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en begrep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ørstesprå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ndresprå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ellomsprå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mpetansebegrep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t historisk overblikk over språklæringsteori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Kunnskapsløftet og språklæringsteorier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t teoretiske grunnlaget for dagens lærepla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-06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gens læreplan i lys av teorie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menfatning og avrund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ndrespråkslær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øte med språket skjer i alle slags komplekse situasjone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ten tilretteleggel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ntan kommunikasjon er  nødvendig fra første stund, aller viktigst er det muntli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gen gradvis progresj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te veiledning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1617840"/>
            <a:ext cx="45720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Fremmedspråkslæring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 møter språket med utvalgte og tilrettelagte tek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mmunikasjon i klasserommet tar mest utgangspunkt i det skriftlige!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advis progresj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iledning av lær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vor plasseres engelsk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Hva er Mellomspråk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Den systematiske språklige atferden til en innlærer av et språk nr. 2 (Sharwood Smith:1994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Det er den observerbare språkbruk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Innlærerens systematiske språklige viten om språk nr.2 (Selinker 1972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Den er den ”indre” grammatikken en bruker har konstruert se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ellomspråk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Det er et helt eget språksyst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Det har viktige teoretiske og praktiske konsekvens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Teoretiske konsekvenser:  de samme lingvistiske metoder som ved ”vanlige” språk anvendes til forklar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Praktiske konsekvenser: avvik fra målspråknormen ansees ikke bare som feil, et mye mer positivt syn etablerer seg (Svindland 1986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Kompetansebegrepe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Med dette begrepet kommer vi nærmere ordvalget i læreplan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I språkvitenskapen er </a:t>
            </a:r>
            <a:r>
              <a:rPr b="1" lang="nb-NO" sz="2800" spc="-1" strike="noStrike">
                <a:solidFill>
                  <a:srgbClr val="ffffff"/>
                </a:solidFill>
                <a:latin typeface="Garamond"/>
              </a:rPr>
              <a:t>kompetanse</a:t>
            </a: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 oftest den ubevisste viten om språket og </a:t>
            </a:r>
            <a:r>
              <a:rPr b="1" lang="nb-NO" sz="2800" spc="-1" strike="noStrike">
                <a:solidFill>
                  <a:srgbClr val="ffffff"/>
                </a:solidFill>
                <a:latin typeface="Garamond"/>
              </a:rPr>
              <a:t>performance</a:t>
            </a: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 utøvelsen av denne viten i konkrete situasjoner. Chomsky (1965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Men i utvidet forstand går begrepet mye lengr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Den beskriver den samlede viten når vi kommunisere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Grammatisk, tekstkompetens, pragmatisk og sosiolingvistisk kompetens,  og alt sammen utgjør </a:t>
            </a:r>
            <a:r>
              <a:rPr b="1" lang="nb-NO" sz="2800" spc="-1" strike="noStrike">
                <a:solidFill>
                  <a:srgbClr val="ffffff"/>
                </a:solidFill>
                <a:latin typeface="Garamond"/>
              </a:rPr>
              <a:t>kommunikativ kompete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Faghistorisk utsy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Chomsky: forskning i et homogent språksamfunn, for eks. idealiserte taler uten nøling, avbrudd, osv. (196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Dell Hymes sier det er et ”Garden of Eden” sy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og studerer språk i sin sosiokulturelle kontekst (1972), det er evnen til å forme og tolke setninger, slik at de blir hensiktsmessi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Hymes introduserer begrepet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Kommunikativ Kompetans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8:29:11Z</dcterms:created>
  <dc:creator>Edith</dc:creator>
  <dc:description/>
  <dc:language>en-US</dc:language>
  <cp:lastModifiedBy>Edith</cp:lastModifiedBy>
  <dcterms:modified xsi:type="dcterms:W3CDTF">2009-03-10T07:30:47Z</dcterms:modified>
  <cp:revision>3</cp:revision>
  <dc:subject/>
  <dc:title>Gjør rede for relevante språklæringsteorier</dc:title>
</cp:coreProperties>
</file>