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149-7C94-4F92-BF75-DA92F450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8A3-CCD2-4AC8-844A-6F11DA4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B5E-1E44-4CCE-837C-1338D8CB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E06-173C-4EA0-92FF-9AA48037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3A5D-0D04-44AE-A953-AFC8440F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864B-30DD-4C77-BCC1-95043BEC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7DEB-EA91-40CF-B581-769D2349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ABF9-BDB0-4EA9-8281-36972638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8C35-AC0F-4B88-B199-C7CE0A57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0701-75B3-45C7-9CDC-3A879AAF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CF69-1598-452A-95D2-E112DE8E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C92-1719-42E2-9C57-F7BD7D94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93A3-D205-4348-AF54-426BA262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DD4E-328D-49FF-A707-D0A8D23F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5108-FC32-4602-BBBC-CAF2C317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D4B7-18EC-4242-BA14-E06B3071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7646-A176-4E40-A33C-49F7F555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A02-11C2-4F68-9F9D-87C36994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1A8-C5D7-4C6C-8854-8C7EFBF1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9FC-A257-48AC-BAD2-E3C37612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67A-662D-4877-BFCE-572B2AEB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15E-0920-45EF-B4F4-9BBC8529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7EC-EABF-4471-BF3B-A14B87CA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80F-E198-4E4B-86B3-7174B60E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1511-3F1A-401D-8A58-83BA07B9DBA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514C-E193-4E52-AD2C-1ED7A6F4D9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jør rede for relevante språklæringsteorier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g drøft dagens læreplan i lys av teo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aghistorik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3 hovedretninger i andrespråksforsk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Behavioristisk teori – kontrastiv analy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Sammenligning av to språ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Man kan forutsi problemområder og transfer av strukturer som lign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Kognitivistisk teori- </a:t>
            </a: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istedenfor vanedanning er språklæring utprøving av hypoteser og etablering av regler. Aktivt og kreativ prosess. Læringsprosessen studeres nøye.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agens Læreplan i Fremmedspråk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Feilanalyse: man kan ikke forutsi feil bare pga sammenligning av S1 og S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Feil sier også noe om elevens kompeta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Mellomspråksteorien (Selinker 1972) oppstå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Overføring fra morsmål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Fra undervis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Læringsstrateg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Kommunikasjonsstrateg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Overgeneraliseringer av regler i målspråke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K-06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Sosial-Konstruktivistisk læringssyn. ”Learner autonomy” (Holec 198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Planlegge, gjennomføre og vurdere sin egen læ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Læring har en affektiv dimensjon teori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Metakognitiv dimensjon: refleksjon over egen læring. (Vurdering </a:t>
            </a:r>
            <a:r>
              <a:rPr b="0" lang="nb-NO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Kommunikativ dimensjon: interkulturell kompetens, språkbad 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råklæringsteorie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en begrep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ørstesprå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dresprå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ellomsprå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petansebegrep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historisk overblikk over språklæringsteori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unnskapsløftet og språklæringsteorier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 teoretiske grunnlaget for dagens lærepl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-06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gens læreplan i lys av teorie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menfatning og avrun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ndrespråkslær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øte med språket skjer i alle slags komplekse situasjon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ten tilretteleggel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ntan kommunikasjon er  nødvendig fra første stund, aller viktigst er det muntl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gen gradvis progresj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 veiledning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1617840"/>
            <a:ext cx="45720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Fremmedspråkslæring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 møter språket med utvalgte og tilrettelagte tek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munikasjon i klasserommet tar mest utgangspunkt i det skriftlige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dvis progresj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iledning av lær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vor plasseres engels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va er Mellomspråk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n systematiske språklige atferden til en innlærer av et språk nr. 2 (Sharwood Smith:199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t er den observerbare språkbruk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Innlærerens systematiske språklige viten om språk nr.2 (Selinker 197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n er den ”indre” grammatikken en bruker har konstruert s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llomsprå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t er et helt eget språk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t har viktige teoretiske og praktiske konsekvens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Teoretiske konsekvenser:  de samme lingvistiske metoder som ved ”vanlige” språk anvendes til forkla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Praktiske konsekvenser: avvik fra målspråknormen ansees ikke bare som feil, et mye mer positivt syn etablerer seg (Svindland 1986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mpetansebegrep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Med dette begrepet kommer vi nærmere ordvalget i læreplan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I språkvitenskapen er </a:t>
            </a: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kompetanse</a:t>
            </a: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 oftest den ubevisste viten om språket og </a:t>
            </a: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performance</a:t>
            </a: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 utøvelsen av denne viten i konkrete situasjoner. Chomsky (1965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Men i utvidet forstand går begrepet mye leng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n beskriver den samlede viten når vi kommuniser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Grammatisk, tekstkompetens, pragmatisk og sosiolingvistisk kompetens,  og alt sammen utgjør </a:t>
            </a: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kommunikativ kompete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aghistorisk utsy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Chomsky: forskning i et homogent språksamfunn, for eks. idealiserte taler uten nøling, avbrudd, osv. (196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Dell Hymes sier det er et ”Garden of Eden” sy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og studerer språk i sin sosiokulturelle kontekst (1972), det er evnen til å forme og tolke setninger, slik at de blir hensiktsmess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Hymes introduserer begrepet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Kommunikativ Kompetan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29:11Z</dcterms:created>
  <dc:creator>Edith</dc:creator>
  <dc:description/>
  <dc:language>en-US</dc:language>
  <cp:lastModifiedBy>Edith</cp:lastModifiedBy>
  <dcterms:modified xsi:type="dcterms:W3CDTF">2009-03-10T07:30:47Z</dcterms:modified>
  <cp:revision>3</cp:revision>
  <dc:subject/>
  <dc:title>Gjør rede for relevante språklæringsteorier</dc:title>
</cp:coreProperties>
</file>