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744-2402-4089-BADA-8B7B1A16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5A6-8975-4816-AD43-B64E4632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2906-86AD-43D1-9467-221327B6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04A-B520-4172-86CE-3EE8DB95F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DF4D-3F80-49AE-98AB-123D5D0D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2A68-5E8A-49DA-BD68-CD43D90D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4F6E-EDE2-4588-B785-75C8B716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0F64-20CB-451D-B82C-3605326C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B37E-7C4A-4C90-B994-25F369D3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4081-02C4-424D-B58F-55477A9E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7F96-606B-488A-8FF2-D3F4B92E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158-868E-4EAD-9A8C-EB40ED5D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9032-3C1F-462D-A9E4-62B178A4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FD10-260D-4D17-9BFF-CD6EA94A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647D-098B-4393-BBBB-362AF9BF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65E4-DACE-45F5-BC77-FACEC516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08CF-0C7A-48DF-8E61-9EC0ECD6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CDC-5562-4943-8081-8D8EA6E6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027-4F85-4016-9DC7-E4AE9999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036-FB72-4BFB-815B-48C92DEB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7C2-617C-4BA3-A41B-387EBE16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080-742B-4385-B060-2DD0F884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8B9-1BFA-44BA-BC1C-9D13B3D0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DDD-4CB3-44D8-AC5F-924EFF4B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83D9-86DD-4F0C-B0CE-7621398783B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94B2-DAD0-49F7-B7A3-D4455B29473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Gjør rede for relevante språklæringsteorier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g drøft dagens læreplan i lys av teor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aghistorik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3 hovedretninger i andrespråksforsk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Behavioristisk teori – kontrastiv analy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Sammenligning av to språ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Man kan forutsi problemområder og transfer av strukturer som lign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Kognitivistisk teori- </a:t>
            </a:r>
            <a:r>
              <a:rPr b="0" lang="nb-NO" sz="2400" spc="-1" strike="noStrike">
                <a:solidFill>
                  <a:srgbClr val="ffffff"/>
                </a:solidFill>
                <a:latin typeface="Garamond"/>
              </a:rPr>
              <a:t>istedenfor vanedanning er språklæring utprøving av hypoteser og etablering av regler. Aktivt og kreativ prosess. Læringsprosessen studeres nøye.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agens Læreplan i Fremmedspråk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Feilanalyse: man kan ikke forutsi feil bare pga sammenligning av S1 og S2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Feil sier også noe om elevens kompetan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Mellomspråksteorien (Selinker 1972) oppstå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Overføring fra morsmål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Fra undervis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Læringsstrateg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Kommunikasjonsstrategi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Overgeneraliseringer av regler i målspråke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K-06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Sosial-Konstruktivistisk læringssyn. ”Learner autonomy” (Holec 198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Planlegge, gjennomføre og vurdere sin egen læ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Læring har en affektiv dimensjon teori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Metakognitiv dimensjon: refleksjon over egen læring. (Vurdering </a:t>
            </a:r>
            <a:r>
              <a:rPr b="0" lang="nb-NO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Kommunikativ dimensjon: interkulturell kompetens, språkbad 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pråklæringsteorier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en begrep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ørstesprå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dresprå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ellomsprå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petansebegrep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t historisk overblikk over språklæringsteori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unnskapsløftet og språklæringsteorier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 teoretiske grunnlaget for dagens lærepl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-06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gens læreplan i lys av teorie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menfatning og avrun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ndrespråkslær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øte med språket skjer i alle slags komplekse situasjone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ten tilretteleggel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ontan kommunikasjon er  nødvendig fra første stund, aller viktigst er det muntl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gen gradvis progresj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te veiledning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1617840"/>
            <a:ext cx="45720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Fremmedspråkslæring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 møter språket med utvalgte og tilrettelagte tek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munikasjon i klasserommet tar mest utgangspunkt i det skriftlige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dvis progresj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iledning av lær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vor plasseres engels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Hva er Mellomspråk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n systematiske språklige atferden til en innlærer av et språk nr. 2 (Sharwood Smith:1994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t er den observerbare språkbruk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Innlærerens systematiske språklige viten om språk nr.2 (Selinker 197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n er den ”indre” grammatikken en bruker har konstruert se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ellomsprå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t er et helt eget språk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t har viktige teoretiske og praktiske konsekvens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Teoretiske konsekvenser:  de samme lingvistiske metoder som ved ”vanlige” språk anvendes til forkla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Praktiske konsekvenser: avvik fra målspråknormen ansees ikke bare som feil, et mye mer positivt syn etablerer seg (Svindland 1986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mpetansebegrepe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Med dette begrepet kommer vi nærmere ordvalget i læreplan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I språkvitenskapen er </a:t>
            </a: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kompetanse</a:t>
            </a: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 oftest den ubevisste viten om språket og </a:t>
            </a: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performance</a:t>
            </a: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 utøvelsen av denne viten i konkrete situasjoner. Chomsky (1965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Men i utvidet forstand går begrepet mye lengr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Den beskriver den samlede viten når vi kommunisere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Garamond"/>
              </a:rPr>
              <a:t>Grammatisk, tekstkompetens, pragmatisk og sosiolingvistisk kompetens,  og alt sammen utgjør </a:t>
            </a:r>
            <a:r>
              <a:rPr b="1" lang="nb-NO" sz="2800" spc="-1" strike="noStrike">
                <a:solidFill>
                  <a:srgbClr val="ffffff"/>
                </a:solidFill>
                <a:latin typeface="Garamond"/>
              </a:rPr>
              <a:t>kommunikativ kompete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aghistorisk utsy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Chomsky: forskning i et homogent språksamfunn, for eks. idealiserte taler uten nøling, avbrudd, osv. (196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Dell Hymes sier det er et ”Garden of Eden” sy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og studerer språk i sin sosiokulturelle kontekst (1972), det er evnen til å forme og tolke setninger, slik at de blir hensiktsmess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Hymes introduserer begrepet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nb-NO" sz="3200" spc="-1" strike="noStrike">
                <a:solidFill>
                  <a:srgbClr val="ffffff"/>
                </a:solidFill>
                <a:latin typeface="Garamond"/>
              </a:rPr>
              <a:t>Kommunikativ Kompetan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29:11Z</dcterms:created>
  <dc:creator>Edith</dc:creator>
  <dc:description/>
  <dc:language>en-US</dc:language>
  <cp:lastModifiedBy>Edith</cp:lastModifiedBy>
  <dcterms:modified xsi:type="dcterms:W3CDTF">2009-03-10T07:30:47Z</dcterms:modified>
  <cp:revision>3</cp:revision>
  <dc:subject/>
  <dc:title>Gjør rede for relevante språklæringsteorier</dc:title>
</cp:coreProperties>
</file>