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B61-3D95-42DB-8034-40475CCD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E6E-FEEA-4E0A-B597-1D5F4FF7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B08-90D1-4A50-8891-DC711564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4AA-F8AB-4CF7-8D4F-A307053B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C5E7-A68B-4D41-A07F-B992A2AD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601D-C176-41B8-B0F3-CAB2733C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120F-7BCF-4CC1-81E5-71172313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0534-2D84-4206-9E5F-2B2CB255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AE22-9AF4-4569-A702-EE90398E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E630-D7C8-498A-8A33-11F010CC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8B1E-5AA2-404E-878C-E049E960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DFC-B70C-4AB9-8F64-86A52758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CD7A-BBA9-4CC8-8C81-F96E1265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BB2F-7CA9-45D8-95D3-0E136DA1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46D3-3159-4414-98BF-B50A97D9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7DC2-45E2-4E56-9DA7-2455F7F0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29F7-A327-4963-9ECA-4002287B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940-9A42-4740-A8D8-9A1FF2A0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DDB-155F-4234-A203-F496BC7A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1DB-CBDB-4535-ACC6-1636E92E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1B0-EAC2-4293-B6C0-1E422C66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BDD-3007-44E9-83D9-9F5ACB68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A9A-21F6-4181-97CD-A9EDD337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EEE-67BB-46BF-8A13-94CD3C4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93C7-88C6-4820-9FEB-CAF18C169B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12A1-1DAE-4ABC-9B4F-247B4109F9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jør rede for relevante språklæringsteorier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g drøft dagens læreplan i lys av teo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aghistorik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3 hovedretninger i andrespråksforsk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Behavioristisk teori – kontrastiv analy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Sammenligning av to språ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Man kan forutsi problemområder og transfer av strukturer som lign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gnitivistisk teori-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istedenfor vanedanning er språklæring utprøving av hypoteser og etablering av regler. Aktivt og kreativ prosess. Læringsprosessen studeres nøye.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agens Læreplan i Fremmedspråk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Feilanalyse: man kan ikke forutsi feil bare pga sammenligning av S1 og S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Feil sier også noe om elevens kompeta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Mellomspråksteorien (Selinker 1972) oppstå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Overføring fra morsmål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Fra undervis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Læringsstrateg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munikasjonsstrateg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Overgeneraliseringer av regler i målspråke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K-06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Sosial-Konstruktivistisk læringssyn. ”Learner autonomy” (Holec 198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Planlegge, gjennomføre og vurdere sin egen læ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Læring har en affektiv dimensjon teori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Metakognitiv dimensjon: refleksjon over egen læring. (Vurdering </a:t>
            </a:r>
            <a:r>
              <a:rPr b="0" lang="nb-NO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mmunikativ dimensjon: interkulturell kompetens, språkbad 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råklæringsteorie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en begrep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ørste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re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ellom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petansebegrep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historisk overblikk over språklæringsteor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unnskapsløftet og språklæringsteorier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 teoretiske grunnlaget for dagens lærepl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-06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gens læreplan i lys av teori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menfatning og avrun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ndrespråkslæ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øte med språket skjer i alle slags komplekse situasjon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en tilrettelegge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ntan kommunikasjon er  nødvendig fra første stund, aller viktigst er det muntl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gen gradvis progresj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 veiledning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1617840"/>
            <a:ext cx="4572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Fremmedspråkslæring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 møter språket med utvalgte og tilrettelagte tek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munikasjon i klasserommet tar mest utgangspunkt i det skriftlige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dvis progresj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iledning av lær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vor plasseres engels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va er Mellomspråk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systematiske språklige atferden til en innlærer av et språk nr. 2 (Sharwood Smith:199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er den observerbare språkbruk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nnlærerens systematiske språklige viten om språk nr.2 (Selinker 197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er den ”indre” grammatikken en bruker har konstruert s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llomsprå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er et helt eget språk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har viktige teoretiske og praktiske konsekvens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Teoretiske konsekvenser:  de samme lingvistiske metoder som ved ”vanlige” språk anvendes til forkla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Praktiske konsekvenser: avvik fra målspråknormen ansees ikke bare som feil, et mye mer positivt syn etablerer seg (Svindland 1986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mpetansebegrep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Med dette begrepet kommer vi nærmere ordvalget i læreplan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 språkvitenskapen er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petanse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oftest den ubevisste viten om språket og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performance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utøvelsen av denne viten i konkrete situasjoner. Chomsky (1965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Men i utvidet forstand går begrepet mye leng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beskriver den samlede viten når vi kommuniser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Grammatisk, tekstkompetens, pragmatisk og sosiolingvistisk kompetens,  og alt sammen utgjør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munikativ kompete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aghistorisk utsy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Chomsky: forskning i et homogent språksamfunn, for eks. idealiserte taler uten nøling, avbrudd, osv. (196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Dell Hymes sier det er et ”Garden of Eden” sy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og studerer språk i sin sosiokulturelle kontekst (1972), det er evnen til å forme og tolke setninger, slik at de blir hensiktsmess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Hymes introduserer begrepet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mmunikativ Kompetan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29:11Z</dcterms:created>
  <dc:creator>Edith</dc:creator>
  <dc:description/>
  <dc:language>en-US</dc:language>
  <cp:lastModifiedBy>Edith</cp:lastModifiedBy>
  <dcterms:modified xsi:type="dcterms:W3CDTF">2009-03-10T07:30:47Z</dcterms:modified>
  <cp:revision>3</cp:revision>
  <dc:subject/>
  <dc:title>Gjør rede for relevante språklæringsteorier</dc:title>
</cp:coreProperties>
</file>